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8FF-EEAE-4A1C-A277-5E701D26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1DE-9D52-4198-8026-6CC1C4E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58D-6555-493D-871E-FF08478F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BD4-7FFE-4606-87DD-79B910D1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9C5-FFC7-4878-9573-FECB63EB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3EA-B7E5-4B3B-BBDD-D13B1DA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624-BE42-47BC-AE1C-18EADE7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CB9-EF41-4A3F-80B0-83C78B4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3D8-4745-4F64-9868-4BC32AB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E73-A114-47E5-A808-D9A4EB7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29F-CCA3-4879-8129-B77B1DA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336-91AE-432A-BADC-D7AD6AF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ABB-48FC-489F-B6DD-4605A2FC1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Road to Financial Matur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essons in 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1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3-6 (Into to personal finan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2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7-10 (saving &amp; budge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3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1-14 (banking &amp; consumeris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4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5-18 (credit &amp; deb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5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ge (student loans &amp; ren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6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ulthood (investing &amp; retiremen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7: Road to Financial Maturity, Gi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ASD</cp:lastModifiedBy>
  <dcterms:modified xsi:type="dcterms:W3CDTF">2011-06-06T17:02:57Z</dcterms:modified>
  <cp:revision>3</cp:revision>
  <dc:subject/>
  <dc:title>Junior Class Advisory</dc:title>
</cp:coreProperties>
</file>